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001-0BB3-4B93-BAA3-440C7266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A98-CA56-4389-9171-22A87045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2D2-60BD-421E-A513-9D7AB95C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5CC-D06F-40FB-A855-52869EE0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FA0-C3FC-4CC7-A5DD-E77C283C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7B0-8593-42A9-B6D7-1ECFA9CF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9FA-8BCF-49E1-9C98-92EEC9E3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292-475D-4A4D-AB83-F29AFE11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6C2-60D0-44BD-AE5B-BC6A3561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D41-D897-48A8-B36A-CD115FD4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5A1-069E-4708-B51A-88CC3DA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3B6-9C0E-4430-A602-F65EC397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08A-E636-4E9E-9518-C97F190745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28760" y="214200"/>
            <a:ext cx="84294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обенности композиции «Слова о полку Игореве».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00040" y="122616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этом уроке вы узнаете о своеобразии композиции и жанра «Слова о полку Игорев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позиция «Слова о полку Игореве» в высшей степени продуманная и стройная, в ее основе лежит принцип переплетения триад (трехчастное строение), характерный для литературных произведений Киевской Руси: «слов», посл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Wsuser\Мои документы\Мои рисунки\рисунки\Рисунок218.png"/>
          <p:cNvPicPr/>
          <p:nvPr/>
        </p:nvPicPr>
        <p:blipFill>
          <a:blip r:embed="rId1"/>
          <a:stretch/>
        </p:blipFill>
        <p:spPr>
          <a:xfrm>
            <a:off x="3857760" y="3357720"/>
            <a:ext cx="22208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D:\Презентации\литература\9 кл\Слово о полку Игореве\Особенности композиции «Слова о полку Игореве». Поэтика «Слова…»\За землю Русскую.jpg"/>
          <p:cNvPicPr/>
          <p:nvPr/>
        </p:nvPicPr>
        <p:blipFill>
          <a:blip r:embed="rId1"/>
          <a:stretch/>
        </p:blipFill>
        <p:spPr>
          <a:xfrm>
            <a:off x="2500200" y="2643120"/>
            <a:ext cx="6174000" cy="4214880"/>
          </a:xfrm>
          <a:prstGeom prst="rect">
            <a:avLst/>
          </a:prstGeom>
          <a:ln w="0">
            <a:noFill/>
          </a:ln>
        </p:spPr>
      </p:pic>
      <p:sp>
        <p:nvSpPr>
          <p:cNvPr id="45" name="WordArt 3"/>
          <p:cNvSpPr txBox="1"/>
          <p:nvPr/>
        </p:nvSpPr>
        <p:spPr>
          <a:xfrm>
            <a:off x="714240" y="357120"/>
            <a:ext cx="7643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рехчастность композиции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14200" y="128592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рудно заметить, что каждый из моментов основной части также состоит из трех эпизодов. Отдельные сцены «Слова» относительно самостоятельные, искусно сплетены автором в единое цел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642960" y="214200"/>
            <a:ext cx="77151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упление «Слова…»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слово.. Вступление.avi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268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928880" y="285840"/>
            <a:ext cx="3214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чин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Рисунок 2" descr="D:\Презентации\литература\9 кл\Слово о полку Игореве\Особенности композиции «Слова о полку Игореве». Поэтика «Слова…»\Русский князь.jpg"/>
          <p:cNvPicPr/>
          <p:nvPr/>
        </p:nvPicPr>
        <p:blipFill>
          <a:blip r:embed="rId1"/>
          <a:stretch/>
        </p:blipFill>
        <p:spPr>
          <a:xfrm>
            <a:off x="1500120" y="1214280"/>
            <a:ext cx="5857920" cy="33274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642960" y="4786200"/>
            <a:ext cx="792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еделив временные рамки своего повествования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от стараго Владимера до нынешняго Игоря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автор рассказывает о дерзком замысле Игоря «навести» свои полки на Половецкую землю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испити шеломомь Дону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D:\Презентации\литература\9 кл\Слово о полку Игореве\Особенности композиции «Слова о полку Игореве». Поэтика «Слова…»\Затмение солнца.jpg"/>
          <p:cNvPicPr/>
          <p:nvPr/>
        </p:nvPicPr>
        <p:blipFill>
          <a:blip r:embed="rId1"/>
          <a:stretch/>
        </p:blipFill>
        <p:spPr>
          <a:xfrm>
            <a:off x="0" y="1071720"/>
            <a:ext cx="4079880" cy="5429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143080" y="214200"/>
            <a:ext cx="50007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ная часть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14880" y="1106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адостных тонах рисует автор встречу Игоря и буй-тура Всевол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 резче контраст с последующим рассказом о грозных знамениях, которыми отмечено начало Игорева похода и которые предвещают его трагический исход: это и солнечное затмение, и необычные зловещие звуки в ночной тишине 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«нощь стонущи ему грозою птичь убуд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, и тревожное поведение зверей, и «клик» Дива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2214720" y="285840"/>
            <a:ext cx="4143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ход Игоря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Рисунок 4" descr="D:\Презентации\литература\9 кл\Слово о полку Игореве\Особенности композиции «Слова о полку Игореве». Поэтика «Слова…»\Битва с половцами.jpg"/>
          <p:cNvPicPr/>
          <p:nvPr/>
        </p:nvPicPr>
        <p:blipFill>
          <a:blip r:embed="rId1"/>
          <a:stretch/>
        </p:blipFill>
        <p:spPr>
          <a:xfrm>
            <a:off x="214200" y="1500120"/>
            <a:ext cx="3695760" cy="4929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3"/>
          <p:cNvSpPr/>
          <p:nvPr/>
        </p:nvSpPr>
        <p:spPr>
          <a:xfrm>
            <a:off x="4286160" y="13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кровавые битвы прошлых времен не могут сравниться с битвой Игоря против окруживших его половецких полков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съ зараниа до вечера, съ вечера до света летятъ стрелы каленыя, гримлютъ сабли о шеломы...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И хотя битва происходит в далекой половецкой степи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в поле незнаемом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но последствия поражения Игоря скажутся на Руси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тугою (горем) взыдоша по Руской зем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D:\Презентации\литература\9 кл\Слово о полку Игореве\Особенности композиции «Слова о полку Игореве». Поэтика «Слова…»\Золотое слово Святослава.jpg"/>
          <p:cNvPicPr/>
          <p:nvPr/>
        </p:nvPicPr>
        <p:blipFill>
          <a:blip r:embed="rId1"/>
          <a:stretch/>
        </p:blipFill>
        <p:spPr>
          <a:xfrm>
            <a:off x="214200" y="1428840"/>
            <a:ext cx="3900600" cy="5143320"/>
          </a:xfrm>
          <a:prstGeom prst="rect">
            <a:avLst/>
          </a:prstGeom>
          <a:ln w="0">
            <a:noFill/>
          </a:ln>
        </p:spPr>
      </p:pic>
      <p:sp>
        <p:nvSpPr>
          <p:cNvPr id="59" name="WordArt 3"/>
          <p:cNvSpPr txBox="1"/>
          <p:nvPr/>
        </p:nvSpPr>
        <p:spPr>
          <a:xfrm>
            <a:off x="1785960" y="285840"/>
            <a:ext cx="4357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н Святослава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4357800" y="1214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ствуется о вещем сне Святослава, предрекающем ему горе и смерть. Бояре истолковывают сон: недобрые предзнаменования уже сбылись,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два солнца померкоста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Игорь и Всеволод потерпели поражение и оказались в плену. Святослав обращается к своим «сыновцам» с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золотым словом, со слезами смешанным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 он упрекает их за нерасчетливые поиски славы, за несвоевременный поход, сетует на княжеское «непособ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714680" y="214200"/>
            <a:ext cx="3429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бег Игоря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Рисунок 6" descr="D:\Презентации\литература\9 кл\Слово о полку Игореве\Особенности композиции «Слова о полку Игореве». Поэтика «Слова…»\Бегство Игоря из плена.jpg"/>
          <p:cNvPicPr/>
          <p:nvPr/>
        </p:nvPicPr>
        <p:blipFill>
          <a:blip r:embed="rId1"/>
          <a:stretch/>
        </p:blipFill>
        <p:spPr>
          <a:xfrm>
            <a:off x="285840" y="1214280"/>
            <a:ext cx="3855960" cy="50724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3"/>
          <p:cNvSpPr/>
          <p:nvPr/>
        </p:nvSpPr>
        <p:spPr>
          <a:xfrm>
            <a:off x="4286160" y="14288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утивле Ярославна молит силы природы помочь ее мужу, вызволить его из плена. В этом лирическом плаче, построенном по образцу народного причитания, тоже звучат общественные мотивы: Ярославна печется и о супруге, и о его «воях», она вспоминает о славных походах Святослава Киевского на хана Кобя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D:\Презентации\литература\9 кл\Слово о полку Игореве\Особенности композиции «Слова о полку Игореве». Поэтика «Слова…»\Боян.jpg"/>
          <p:cNvPicPr/>
          <p:nvPr/>
        </p:nvPicPr>
        <p:blipFill>
          <a:blip r:embed="rId1"/>
          <a:stretch/>
        </p:blipFill>
        <p:spPr>
          <a:xfrm>
            <a:off x="0" y="1000080"/>
            <a:ext cx="4248000" cy="550080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1928880" y="214200"/>
            <a:ext cx="3857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цовка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357800" y="10000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«Слова» беспрестанно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«свивает славы обаполы сего времен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т. е., говоря о настоящем, вспоминает о прошлом, ищет там поучительные примеры, отыскивает аналогии. Он вспоминает то Владимира Мономаха, то Олега Святославича, то Всеслава Полоцкого. Тем самым, снова и снова, утверждая связь времен, доказывая, что прошлое, настоящее и будущее неразрывно связ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8:52:37Z</dcterms:created>
  <dc:creator>Wsuser</dc:creator>
  <dc:description/>
  <dc:language>en-US</dc:language>
  <cp:lastModifiedBy>Wsuser</cp:lastModifiedBy>
  <dcterms:modified xsi:type="dcterms:W3CDTF">2011-05-10T09:26:21Z</dcterms:modified>
  <cp:revision>3</cp:revision>
  <dc:subject/>
  <dc:title>Слайд 1</dc:title>
</cp:coreProperties>
</file>